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D79F-B28B-4965-BC10-EE6CEFB3D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6029-6122-4419-9E54-13EFDAE51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8DA-3696-453C-9656-808062516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3BD-1E6D-4966-A35F-29E4DAA21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2D6-DA4A-4C36-B1D9-9FA767EB7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D4E-1283-4415-9BF5-261326FF6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264-E0AA-49D5-9AA3-9F0A3CF4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41D-080F-4B78-9533-B85E29BE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33C-6BF0-447C-8955-E86D55E9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DC3-EA08-48D0-B6AA-991D8AE7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AFB5-E766-49A7-B3D7-C6C114A7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B2F-AA9D-46CE-BBAA-A3F1473A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1048-3CE0-4E8A-8DE9-769A8880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0B3-CB3C-4DE7-B251-0E4E3CF2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6E21-1154-4496-A58C-94780667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76CD-036C-41E6-8ED3-758FF81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8EB-9839-40DA-9A6B-F628753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55D-2928-4650-B637-1FEEE142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789E-EABA-4764-A0F5-346DEDE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364-FDC0-4945-AB80-3956BD0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D4EA-870E-40E5-92C0-BF0CD9F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9E1-526D-4343-9676-0FD3F871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749B-8717-4C79-9E23-7C56D407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96F-F38C-4BBD-89F0-2193079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954-DF0E-4522-8D3E-8D133CC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72A-5B2E-4C7C-B24F-EF686F7F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367-9007-452A-B9F0-823EDBCF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DB0-AA52-47D3-891B-4345CFD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5F6-1F63-4380-A130-E3EF78F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356-7B90-43D8-906C-51E6A267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4FF-42D5-41DB-A21A-27CC5C373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1050-23FD-4A1E-BD1B-F6C083A36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403B-A735-4E14-85DF-B1723056B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74B-823A-41C2-9A05-02D1DB677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460520" y="2087640"/>
            <a:ext cx="77090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93" name=""/>
          <p:cNvGraphicFramePr/>
          <p:nvPr/>
        </p:nvGraphicFramePr>
        <p:xfrm>
          <a:off x="3355920" y="4037040"/>
          <a:ext cx="4064040" cy="2590920"/>
        </p:xfrm>
        <a:graphic>
          <a:graphicData uri="http://schemas.openxmlformats.org/drawingml/2006/table">
            <a:tbl>
              <a:tblPr/>
              <a:tblGrid>
                <a:gridCol w="4064040"/>
              </a:tblGrid>
              <a:tr h="121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or Dr. Imelda Balch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ltant Maternal Fetal Medic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ti Mal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Ranjit Singh Dhalliw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tetrician &amp; Gynaec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Amp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8400" y="654120"/>
            <a:ext cx="119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 is seen again at 36/52 PO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ltrasound performed has revealed evidence of polyhydramnios and estimated fetal weight 3.1k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-27000" y="1946160"/>
          <a:ext cx="12192120" cy="1189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39672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H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1680" y="3459240"/>
          <a:ext cx="12160440" cy="188892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u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 mm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symptoms of impeding eclam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757-7BBA-451E-9627-2EBAEAC21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next plan of manag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between 37+0 and 38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at 40+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eliver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Repeat another scan after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dminister corticosteroids and repeat another scan after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4" name="Rounded Rectangle 3"/>
          <p:cNvSpPr/>
          <p:nvPr/>
        </p:nvSpPr>
        <p:spPr>
          <a:xfrm>
            <a:off x="165240" y="1851120"/>
            <a:ext cx="7191360" cy="645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612200" y="18813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8F57-5335-4B53-9F3E-E57204F0D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Patient wishes to know her mode of deliv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Delivery will be via an elective caesarean section to avoid shoulder dysto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For induction of labour between 37+0 and 38+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wait for spontaneous onset of lab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Mode of delivery should be individualised, taking into consideration the estimated fetal weight and obstetric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Aim for a vaginal delivery but no instr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0" name="Rounded Rectangle 3"/>
          <p:cNvSpPr/>
          <p:nvPr/>
        </p:nvSpPr>
        <p:spPr>
          <a:xfrm>
            <a:off x="165240" y="2641680"/>
            <a:ext cx="11407680" cy="647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8799480" y="489744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5"/>
          <p:cNvSpPr/>
          <p:nvPr/>
        </p:nvSpPr>
        <p:spPr>
          <a:xfrm>
            <a:off x="165240" y="3749760"/>
            <a:ext cx="11407680" cy="904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928-8CA8-4B3E-997D-64B05655E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ophylaxis for pre-eclam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vention of neural tube de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isk assessment for complications of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MBG and achieving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Fetal growth monitoring can be used to facilitate manag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iming of delivery has to be individualised after discussion with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8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8E5-AA70-4E3A-8926-8B6556838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1B6A-FF0F-4166-A460-497885C8E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2F3-B970-4706-AB9C-BA492FF5A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37/ G3P2 @ 11/52 PO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he has pre-existing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bA1c is 5.5 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current glycaemic levels are satisfa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he had already switched from glicazide to metfor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MI is 32 kg/m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P is 130/80 mmHg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99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FA15-39F9-4168-AD15-ABD49C32F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next step in her manag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vit. C &amp; E sup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low dose aspirin from 12/52  till deli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retinal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n ultrasound scan for dating of pregnan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heck urine for presence of proteinu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3" name="Rounded Rectangle 3"/>
          <p:cNvSpPr/>
          <p:nvPr/>
        </p:nvSpPr>
        <p:spPr>
          <a:xfrm>
            <a:off x="165240" y="2401920"/>
            <a:ext cx="11326680" cy="241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195800" y="50259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5200-4D06-4EAC-BDC8-672B9B5A2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advice will you give her to reduce complications in her pregnanc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Limit total weight gain pregnancy to between 5 - 9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ncourage exercise in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ncourage BSP to be done once a 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Maintain blood glucose targets; fasting &lt;5.1mmol /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ntinue folic acid at 5 mg per day till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09" name="Rounded Rectangle 3"/>
          <p:cNvSpPr/>
          <p:nvPr/>
        </p:nvSpPr>
        <p:spPr>
          <a:xfrm>
            <a:off x="165240" y="2306520"/>
            <a:ext cx="1120284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068800" y="172260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nsw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2813-C997-45EF-A24B-8A87BB85A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695160"/>
            <a:ext cx="1216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then referred to a tertiary centre at 16/5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455840"/>
          <a:ext cx="1219212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4575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prandial 2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3548160"/>
          <a:ext cx="12160080" cy="13716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 u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598-73D6-4F3C-848E-C897CB6C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will you explain to 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nitiate insulin as in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reatment of hyperglycemia will reduce the risk of pre-eclampsia by 38%, macrosomia by 50% and shoulder dystocia by 58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ment for a detailed structured anatomy scan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6-18/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Referral to nephrolog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mmence on thrombo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20" name="Rounded Rectangle 3"/>
          <p:cNvSpPr/>
          <p:nvPr/>
        </p:nvSpPr>
        <p:spPr>
          <a:xfrm>
            <a:off x="165240" y="2484360"/>
            <a:ext cx="11202840" cy="1528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716960" y="155736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5"/>
          <p:cNvSpPr/>
          <p:nvPr/>
        </p:nvSpPr>
        <p:spPr>
          <a:xfrm>
            <a:off x="233280" y="5106960"/>
            <a:ext cx="11203200" cy="1454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5712-7DBB-4372-B6FF-E4D853BE3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733320"/>
            <a:ext cx="12192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 is on regular follow up and is seen again at 28/5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nical examination has revealed a symphyseal fundal height of 34 c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-27000" y="1441440"/>
          <a:ext cx="12192120" cy="1189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39672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"/>
                          <a:ea typeface="Arial"/>
                        </a:rPr>
                        <a:t>SM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prandial 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 m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1680" y="2954160"/>
          <a:ext cx="12160440" cy="158436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3967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um creat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umol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u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m/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marL="438120" indent="-3427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 mm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FD93-4541-492C-8E6D-9DA040D6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What is your further plan of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fetal growth s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nsider increasing insulin dose following more frequent SMBG monitoring if presence of polyhydramnios and large for gestational age (LG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Patient should be managed by obstetricians in the clin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repeat retinal assess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rrange for a repeat HBA1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2" name="Rounded Rectangle 3"/>
          <p:cNvSpPr/>
          <p:nvPr/>
        </p:nvSpPr>
        <p:spPr>
          <a:xfrm>
            <a:off x="165240" y="1851120"/>
            <a:ext cx="11449080" cy="2162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8702640" y="11034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5"/>
          <p:cNvSpPr/>
          <p:nvPr/>
        </p:nvSpPr>
        <p:spPr>
          <a:xfrm>
            <a:off x="233280" y="4519440"/>
            <a:ext cx="11381040" cy="72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99D-51A3-44FC-A1EC-A8E88F1C9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cp:lastPrinted>2018-07-04T01:19:18Z</cp:lastPrinted>
  <dcterms:modified xsi:type="dcterms:W3CDTF">2018-07-19T06:25:43Z</dcterms:modified>
  <cp:revision>162</cp:revision>
  <dc:subject/>
  <dc:title>Case study</dc:title>
</cp:coreProperties>
</file>